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19B-9BC3-4B05-975D-6F205C53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804-3181-4E9B-BC3C-560A92D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C6E-50CA-4061-A563-8C51E41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273-2362-4FA6-9949-E504261B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D33-B78C-4353-8891-D3F1F412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56C-C6CE-4C8A-B8BF-0186A07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DE3-C364-4E77-8E90-F8128BE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94A-A554-470E-A116-043E918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8E6-EFFB-4387-8264-FB0F7404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346-A84A-4553-916B-1D8DF8D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527-5F4F-4B66-A6E3-10FF5A5C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1B7-CA2E-42DB-A26F-64245CD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E14-BA40-467B-BBDC-2C6A4965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cxly.com/jiuzhaigou-scenery/164810627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2060640"/>
            <a:ext cx="489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五彩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83664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四年级语文下册第二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9907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无数的水池在灿烂的阳光下，闪耀着各种不同颜色的光辉，好像是铺展着的巨幅地毯上的宝石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4131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把藏龙山比做巨幅地毯，把闪耀着各种不同颜色光芒的水池比做晶莹耀眼的宝石，形象地描绘了五彩池神奇的景色。</a:t>
            </a:r>
            <a:r>
              <a:rPr b="1" lang="en-US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4005360"/>
            <a:ext cx="7257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描写水池的深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水池的面积不足一亩，水深不过一丈；小的像个菜碟，水很浅，用小拇指就触到池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49120" y="2602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692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6778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98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435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的水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34354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的水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516720" y="378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像个菜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9482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不过一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6864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小拇指就能触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9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不足一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3336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479520"/>
            <a:ext cx="770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池边是金黄色的石粉凝成的，像一圈圈彩带，把大大小小的水池围成各种不同的形状，有像葫芦的，有像镰刀的，有像盘子的，有像莲花的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64960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句话写了水池哪几种形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57336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句话运用了＿＿＿＿＿＿修辞方法，把＿＿＿＿分别比作＿＿＿　＿＿＿　　＿＿＿　＿＿＿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429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9080" y="3570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比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4149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149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葫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42051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镰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6560" y="4724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盘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7102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莲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676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734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谁能说说这句话中省略号的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476280"/>
            <a:ext cx="7561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更使我惊奇的是，所有的池水来自同一条溪流，溪水流到各个水池里，颜色却不同了。有些水池的水还不止一种颜色，上层是咖啡色的，下层却是成了柠檬黄；左半边是天蓝色的，右半边却成了橄榄绿。可是把水舀起来看，又跟普通的清水一个样，什么颜色也没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2282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429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65181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5760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蓝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橄榄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03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柠檬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895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咖啡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495680" y="5105160"/>
            <a:ext cx="381240" cy="53316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240" y="4266720"/>
            <a:ext cx="60948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334120" y="3886200"/>
            <a:ext cx="380880" cy="3808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638320" y="3352680"/>
            <a:ext cx="304920" cy="304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549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柠檬黄、天蓝、咖啡色、橄榄绿等是“物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﹢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色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”式的词。你还能说出这样的词吗？并能用它们来填写下面的句子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328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有的上边的池水是（　　　），流到下边的池就成了（　　　）；有的左半边的池水是（　　　），右半边的池水却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五彩池里的水为什么会显出不同的颜色？原因是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620640"/>
            <a:ext cx="77770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明明是清水，为什么在水池里会显出不同的颜色来呢？原来池底长着许多石笋，有的像起伏的丘陵，有的像险峻的山峰，有的像矗立的宝塔，有的像成簇的珊瑚。石笋表面凝结着一层细腻的透明的石粉。阳光透过池水射到池底，石笋就像高低不平的折光镜，把阳光折射成各种不同的色彩。水池周围的树木花草长得很茂盛，五光十色的倒影使池水更加瑰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池底长着许多石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4436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原来池底长着许多石笋，有的像起伏的丘陵，有的像险峻的山峰，有的像矗立的宝塔，有的像成簇的珊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5329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6264360" cy="486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水周围的树木花草长得很茂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34136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671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形成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85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一、池底长着石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7162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二、石笋表面凝结着石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437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三、阳光的折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229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四、树木花草的倒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4920" y="-27000"/>
            <a:ext cx="5400720" cy="691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292720" y="-314280"/>
            <a:ext cx="381636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374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9109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五彩池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阳光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石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丘陵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宝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珊瑚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瑶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山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6085080" cy="422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6192720" cy="479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03640" y="0"/>
            <a:ext cx="6840360" cy="494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1760" y="1006560"/>
            <a:ext cx="789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五彩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ǒng             jià        màn               yào    mǔ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哄 骗    腾云 驾 雾    漫 山遍野 闪 耀  一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hàng mǔ        lián          sǔn         fú  qiū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 丈     拇  指    镰 刀   竹 笋    起 伏  丘 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è     lún     níng méng  níng    yǎo          jù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射  昆 仑山    柠   檬       凝 成  舀 水   险 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60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记住我了吗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有感情地朗读课文，找出课文从哪几方面来描写五彩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思考五彩池的水为什么呈现不同的颜色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五彩池的数量、颜色、大小、深浅、形状是怎样的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14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楷体_GB2312"/>
              </a:rPr>
              <a:t>只见漫山遍野都是大大小小的水池。无数的水池在灿烂的阳光下，闪耀着各种不同颜色的光辉，好像是铺展着的巨幅地毯上的宝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1727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76640"/>
            <a:ext cx="9349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1125360"/>
            <a:ext cx="1873440" cy="6480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789360"/>
            <a:ext cx="763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漫山遍野”和“无数”说明了水池的数量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24280"/>
            <a:ext cx="7561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大小小”说明水池大小不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0:25Z</dcterms:created>
  <dc:creator>Billgates</dc:creator>
  <dc:description/>
  <dc:language>en-US</dc:language>
  <cp:lastModifiedBy>wzm66</cp:lastModifiedBy>
  <dcterms:modified xsi:type="dcterms:W3CDTF">2015-10-14T11:58:39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